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DAF-FC70-4E65-9BD8-D4190D05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9AD-C275-4ABB-9FF4-B3B338D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11C-2FD6-4D55-9F45-D78D2B2D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7A4-C837-4BFA-B749-12705A6F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7CC-9F38-43BE-8D4A-4A215934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990-C1D4-4FDC-A3E3-2E564E3B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44E-E7B1-434A-AEFD-AA4008A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D10-45C2-4764-9CF0-FB9E341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DE2-C643-4B9D-8B83-FE81B647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5FC-3FE5-4AAE-87D7-0674BE0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4D9-B2C3-4F00-B17F-816F624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A28-E0EE-4E22-9B46-7EFCF3B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B0E-134B-4E92-8C7B-8B18102F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19280" y="1125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125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59960" y="404640"/>
            <a:ext cx="59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тоги Всероссийской переписи населения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6:00:39Z</dcterms:created>
  <dc:creator>студент</dc:creator>
  <dc:description/>
  <dc:language>en-US</dc:language>
  <cp:lastModifiedBy>студент</cp:lastModifiedBy>
  <dcterms:modified xsi:type="dcterms:W3CDTF">2013-11-07T06:00:40Z</dcterms:modified>
  <cp:revision>1</cp:revision>
  <dc:subject/>
  <dc:title>Слайд 1</dc:title>
</cp:coreProperties>
</file>